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2C4-D1C4-4B9D-9197-4BE21C94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EDC-CC95-433A-9341-5D06BAD5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F53-144C-42CF-9503-429375A8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C20-863D-4C06-A3C3-73B46008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0CA-9F10-4F50-A09E-0372E458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D766-D463-4B85-91AA-9D52D996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218-B816-47D6-AC9E-B0CC67C7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B8C8-E2FB-46AB-AF87-3519A01A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65E-628C-466A-9473-CC56C6AE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40A9-F457-4E71-8868-4013EFD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53A-22C9-4218-9E6E-4FE45A78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73C-586B-4E8E-951D-725A9ADD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20FF-BD25-4AA8-8B1E-22C09DBC1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udent S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urlz MT"/>
              </a:rPr>
              <a:t>Fractions: Are they Mixed-Up or just Impro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de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include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t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Do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y poster shows that I understand fractions very well? 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 my images relate to fractions and add to the meaning?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 I use lines, shapes, mass, texture, and color creatively. Is my poster is interesting, attractive, and meaningful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created on Publisher or done by ha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48320" y="1600200"/>
          <a:ext cx="4329000" cy="4525920"/>
        </p:xfrm>
        <a:graphic>
          <a:graphicData uri="http://schemas.openxmlformats.org/drawingml/2006/table">
            <a:tbl>
              <a:tblPr/>
              <a:tblGrid>
                <a:gridCol w="3681000"/>
                <a:gridCol w="216000"/>
                <a:gridCol w="216000"/>
                <a:gridCol w="216000"/>
              </a:tblGrid>
              <a:tr h="18763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17:15:28Z</dcterms:created>
  <dc:creator>Eldred Central School</dc:creator>
  <dc:description/>
  <dc:language>en-US</dc:language>
  <cp:lastModifiedBy>Eldred Central School</cp:lastModifiedBy>
  <dcterms:modified xsi:type="dcterms:W3CDTF">2010-07-02T18:38:35Z</dcterms:modified>
  <cp:revision>2</cp:revision>
  <dc:subject/>
  <dc:title>Student Samples</dc:title>
</cp:coreProperties>
</file>